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E135-5E92-4AFF-BA84-6A93D339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EF3D-9CFD-40C6-B4A8-656A48FC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D4D2-1D8A-4EB8-A8E9-13E4F172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4FA2-5EF6-425B-9C6C-C866B572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A19D-C2AB-40B2-9580-69B51E02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AED2-E8CF-47C0-9DB8-B2BF3F38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8403-4F4D-4792-9C60-8FEDCB2E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EC93-B30B-432A-AE14-AE7AB4A5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FDA-FB50-46A1-9DAB-F5C99616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F7AA-48D7-4C61-94C1-1D72A0BE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69E-046C-47DF-B51D-EEDD1E9E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80C9-01F1-4296-9FAE-B1AE4A5F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01AC-9072-469B-80AF-9698E517B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9280" y="41907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er: Construct an acute and an obtuse angle.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ve a neighbor measure the angles.  Check to see if you agree on the measuremen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6: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geometric figures using a variety of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to begin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 -  to bu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ractor – tool used to measure 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information would you need to create a triangle in terms of angles and sides?  Do you really need to know all 3 angles and side lengths to create a triang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gle-Side-An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type of construction, you are provided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wo angle meas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ngth of one s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your triangl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, draw the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, create one angle on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create the other angle on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wo sides are created where they inters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365760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441972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533412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662940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6400440" y="41907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867280" y="3352680"/>
            <a:ext cx="2133720" cy="1067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553080" y="4267080"/>
            <a:ext cx="21337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81532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162920" y="4571640"/>
            <a:ext cx="1752480" cy="762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629400" y="6095880"/>
            <a:ext cx="10666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7695720" y="6095880"/>
            <a:ext cx="12956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le-Side-Ang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apply these steps to the following clues: 4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°, 103° and a side that’s 3 inches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9:26:56Z</dcterms:created>
  <dc:creator>deanne elizabeth mcgrath</dc:creator>
  <dc:description/>
  <dc:language>en-US</dc:language>
  <cp:lastModifiedBy>deanne elizabeth mcgrath</cp:lastModifiedBy>
  <dcterms:modified xsi:type="dcterms:W3CDTF">2011-02-09T19:28:41Z</dcterms:modified>
  <cp:revision>1</cp:revision>
  <dc:subject/>
  <dc:title>Opener: Construct an acute and an obtuse angle.   Have a neighbor measure the angles.  Check to see if you agree on the measurement. </dc:title>
</cp:coreProperties>
</file>